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B9F-7A95-4FF9-AEF2-4C47D7C3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 – go over these.  Third bullet – case detection and treatment outcome data already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arten van Cle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– numerator/denominator if quantitative, yes/no if qual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sures – relevance to program management,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measure it – specific information on how to obtain the numerator/denominator, how to determine value of indicator for qualitativ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ources – for example, laboratory register, treatment cards, treatment register, quarterly reporting form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and function – how often to report and appropriate use (for example, a monitoring vs evalaution indica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s and limi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und for AIDS, TB and Malaria, which recommends 10% of program budgets go to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TB – encouraging M&amp;E under expanded DOTS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ID – went from spending very little in 1998 (8 million) to over 200 million las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between TB and HIV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Plus – to qualify for drugs from Green Light Committee, countries needed more systematic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greater resources going to TB and trends such as MDR-TB, public/private mixes and TB/HIV co-infection, there is a need for a broader view of these activities.  Need for standardized indicators that can be used to compare districts within a country and also between countries.  In addition to case management, need program implementation dat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of the Compen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bullet – reflects use of the framework to guide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assessment visits was to see what was already out there – we did not want to increase the burden of data collection but also knew that many programs already collected so much info – wanted to see if we could use data that are collected but not reported or even used to identify problems or for program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chosen based on region and presence of specific program types and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untry – met with key partners and visited faciity, district and national level offices to review data collection an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467-BFE8-489B-AC90-DEE88656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1B2-E908-48D1-B5CC-996F68BD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906-AFA1-40AD-BE99-26A67AE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15F-F835-47B3-B8D5-91FBAF8C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35A-C4FE-443B-A8BD-D1A7FEB8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E0C-213F-47B0-8B71-5CA89F74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ACF-DC8C-4640-B518-8700A5E7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63D-2625-4C93-9ADA-5CA22F85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138-D84D-403A-842D-3DFB8D27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A2C-E566-4D65-8C7B-0FD4539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97F-203B-4ADC-8CAD-0BB09EA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9AA-6653-48EE-B7A9-C242992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065-EF58-4C77-9A36-FA61B2AC9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57520" cy="81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602928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056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Compendio de Indicadores para el Monitoreo y la Evaluación de Programas Nacionales de Tuberculo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8288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harlotte Colvi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Abril 2 de 2005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Resultados de las visitas de campo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Cantidad substancial de datos que son recolectados a nivel local pero no son reportado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Debilidades a nivel local en los sistemas de reporte, pocos indicadores de compromiso político, actividades de intervención temprana, suministro de medicamentos y VIH/TB 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Falta de datos del sector privado (médicos privados).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0000"/>
                </a:solidFill>
                <a:uFillTx/>
                <a:latin typeface="Times New Roman"/>
              </a:rPr>
              <a:t>Paso 2</a:t>
            </a: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: Creación de un grupo de trabajo internacional</a:t>
            </a: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Metas similares en cuanto al desarrollo de indicadores mas informativos en la implementación del programa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Traer expertos de varios sectore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  “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Stop TB”, OMS, “UNION”, “KNCV”, “CDC”, “USAID”,  Banco Mundial, “MSH”, “MEASURE/Evaluation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Resultados del grupo de trabajo en M&amp;E de TB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Indicadores para TAES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: mide los aspectos claves de la epidemia de la TB en un país y su respuesta a los programa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Se basa en las recomendaciones de la OMS basada en las recolecciones de los sistemas existente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Críticos expertos, críticos externo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0000"/>
                </a:solidFill>
                <a:uFillTx/>
                <a:latin typeface="Times New Roman"/>
              </a:rPr>
              <a:t>Paso 3</a:t>
            </a: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: Probando el Trabajo de Campo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Perú, Kazajstán, Haití &amp; Tailandi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Revise los indicadores teniendo en cuenta el los resultados del trabajo de camp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1240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0000"/>
                </a:solidFill>
                <a:uFillTx/>
                <a:latin typeface="Times New Roman"/>
              </a:rPr>
              <a:t>Paso 4</a:t>
            </a: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: Aumentando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Egipto (Marzo), México (este taller), Camboya (Junio), Subsanan África (Jun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Asistencia Técn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Indicadores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Indicadores Globales (5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etección de cas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Éxito en el tratamien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bertura con TA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eroprevalencia de VIH en casos de T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Vigilancia de TB - MD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Reporte Rutinario de los resultados del programa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etección de Casos (6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versión en el frotis de espu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esultados del Tratamien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Indicadores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Indicadores de proceso que miden la implementación del TAES utilizando marcos expandido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ompromiso Político (1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esupuesto y plan de trabajo anual del P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agnostico (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xistencia de una red amplia de laboratori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Manejo de casos que incluyan el TAES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porción de pacientes con el régimen correc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Administración de Medicamentos (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esencia de sistemas de control de calidad para la administración de medicament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Indicadores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Indicadores de proceso que miden la implementación del TAES utilizando marcos expandido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Recolección y Reporte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ecisión de los reportes enviados al P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Supervisión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xistencia de guías de supervisió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esarrollo de Recursos Humanos (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porción de centros de salud con por lo menos un profesional capacitado en la estrategia del TA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Sistema de Salud (1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stribución equitativa del TA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Formato de Indicadore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21896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Definició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Que son medida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Como se mi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Fuente de Da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Frecuencia y Funció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Fortalezas y Debilidad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Porque una nueva guía para el M&amp;E de la TB?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Seguimiento de Pacientes y manejo de casos, utilizando las formas estandarizadas establecidas por la OMS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Necesidad de datos del programa para el M&amp;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Un pequeño numero de indicadores se enfocan en los resultados de la implementación del TA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Formas para el monitoreo especifico del program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Visitas periódicas para evaluación a nivel de servici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Porque una nueva guía para el M&amp;E de la TB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?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Nuevas iniciativas mundiale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Fondo Mundial para la TB, el SIDA y la Malari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Sociedad para parar la TB = “STOP TB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Aumento en de la participación de “USAID”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Iniciativas de TB/VIH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TAES - PLU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60" y="4572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arco de M&amp;E para programas de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280" y="1844640"/>
            <a:ext cx="8747280" cy="4768560"/>
            <a:chOff x="152280" y="1844640"/>
            <a:chExt cx="8747280" cy="4768560"/>
          </a:xfrm>
        </p:grpSpPr>
        <p:sp>
          <p:nvSpPr>
            <p:cNvPr id="60" name=""/>
            <p:cNvSpPr/>
            <p:nvPr/>
          </p:nvSpPr>
          <p:spPr>
            <a:xfrm>
              <a:off x="152280" y="1844640"/>
              <a:ext cx="1619280" cy="295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olíticas Ambient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cursos financieros y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raestruc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5280" y="1844640"/>
              <a:ext cx="1752480" cy="323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dminist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nejo de Medica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aborato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80000" y="1844640"/>
              <a:ext cx="1600200" cy="37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ios Diagnós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ios de Trat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umento de conocimiento, actitudes y prac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ducción del Esti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5640" y="1844640"/>
              <a:ext cx="1944720" cy="18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ul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Detección de Ca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Éxito del Trat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51640" y="1844640"/>
              <a:ext cx="1447920" cy="404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alencia de infección por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alencia de la enfermedad por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rbilidad de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rtalidad de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37320" y="4564080"/>
              <a:ext cx="127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51640" y="259092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3120" y="6093000"/>
              <a:ext cx="81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7, Compendium of Indicators for Monitoring and Evaluating National Tuberculosis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ID, MEASURE, CDC, WHO, IUATLD, KNCV, MSH. WHO/HTM/TB/2004.344, August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Expansión de actividades para el  M&amp;E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Enlace de los marcos de insumos, procesos para productos, resultados e impact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Indicadores estandarizados para el uso glob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Programas establecidos para complementar el manejo de casos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Indicadores específicos para los diferentes lugares y tipos de programa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Guías Internacionales para M&amp;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Suministrar los indicadores mas útiles para monitorear y evaluar los programas de control de TB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Fomentar el uso de definiciones estandarizadas para los indicadores al igual que de la terminología a través de todo el programa, países y agencias donantes. 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Times New Roman"/>
              </a:rPr>
              <a:t>Ofrece las medidas de procesos e insumos que están ligados a las actividades del programa. Promueve la evaluación de los procesos y el impacto de los programas de control de la TB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5560" y="4572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arco de M&amp;E para programas de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2280" y="1844640"/>
            <a:ext cx="8747280" cy="4768560"/>
            <a:chOff x="152280" y="1844640"/>
            <a:chExt cx="8747280" cy="4768560"/>
          </a:xfrm>
        </p:grpSpPr>
        <p:sp>
          <p:nvSpPr>
            <p:cNvPr id="77" name=""/>
            <p:cNvSpPr/>
            <p:nvPr/>
          </p:nvSpPr>
          <p:spPr>
            <a:xfrm>
              <a:off x="152280" y="1844640"/>
              <a:ext cx="1619280" cy="295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Políticas Ambient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Recursos financieros y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Infraestruc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35280" y="1844640"/>
              <a:ext cx="1752480" cy="323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dminist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Manejo de Medica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aborato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0000" y="1844640"/>
              <a:ext cx="1600200" cy="37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ios Diagnós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rvicios de Trat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umento de conocimiento, actitudes y prac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ducción del Estig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5640" y="1844640"/>
              <a:ext cx="1944720" cy="18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ul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Detección de Ca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Éxito del Trat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51640" y="1844640"/>
              <a:ext cx="1447920" cy="404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alencia de infección por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alencia de la enfermedad por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rbilidad de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rtalidad de 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37320" y="4564080"/>
              <a:ext cx="127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51640" y="259092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120" y="6093000"/>
              <a:ext cx="81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7, Compendium of Indicators for Monitoring and Evaluating National Tuberculosis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ID, MEASURE, CDC, WHO, IUATLD, KNCV, MSH. WHO/HTM/TB/2004.344, August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Desarrollo del Compendio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aso 1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: Evaluación de los sistemas de M&amp;E existentes en PNT y el Ministerio de Salu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aso 2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: Cree un grupo de trabajo internacional para desarrollar y repasar los indicadores de M&amp;E para TB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aso 3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: Pruebe los indicadores realizando trabajo de campo en países seleccionad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Paso 4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: Aumente la capacidad  en el sistema de M&amp;E para recolectar, diseminar y utilizar la informació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0000"/>
                </a:solidFill>
                <a:uFillTx/>
                <a:latin typeface="Times New Roman"/>
              </a:rPr>
              <a:t>Paso 1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: Evaluación de los sistemas de M&amp;E existentes en PNT y el Ministerio de Salud</a:t>
            </a:r>
            <a:br>
              <a:rPr sz="2800"/>
            </a:b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Visitas de campo para examinar el sistema de M&amp;E: formas de recolección de datos, reporte, supervisión y uso de los datos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Sudáfrica, Rusia, Honduras, Filipina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Reúnanse con los PNTs, USAID, OMS, CDC y los socios de implementación loc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Revise la literatura existe en indicadores de TB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8:04:38Z</dcterms:created>
  <dc:creator>smullen</dc:creator>
  <dc:description/>
  <dc:language>en-US</dc:language>
  <cp:lastModifiedBy>Jessica Posner</cp:lastModifiedBy>
  <dcterms:modified xsi:type="dcterms:W3CDTF">2005-03-23T16:26:51Z</dcterms:modified>
  <cp:revision>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44124249</vt:r8>
  </property>
  <property fmtid="{D5CDD505-2E9C-101B-9397-08002B2CF9AE}" pid="3" name="_AuthorEmail">
    <vt:lpwstr>jposner@tulane.edu</vt:lpwstr>
  </property>
  <property fmtid="{D5CDD505-2E9C-101B-9397-08002B2CF9AE}" pid="4" name="_AuthorEmailDisplayName">
    <vt:lpwstr>Jessica Posner</vt:lpwstr>
  </property>
  <property fmtid="{D5CDD505-2E9C-101B-9397-08002B2CF9AE}" pid="5" name="_EmailSubject">
    <vt:lpwstr>MEASURE TB Workshop</vt:lpwstr>
  </property>
</Properties>
</file>